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26A-2F8F-4F64-8306-F3A1FEE4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B1C-93C0-4A57-88FF-0ECD3803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7BE-20D4-4DC0-8B5A-E47FE689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F2F-762E-4403-9B8B-56B8685C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A7B-13A9-4CAF-A4F2-25BE4CE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007-D990-4B67-AEDC-1C4D7A6A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585-3E75-4170-86BD-A0110F34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1F3-109D-46C6-A6BC-F027491A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55E-E5BC-4772-B477-4A86A755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D059-625E-45EE-9B20-086C9E8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4FC-36D5-40ED-A78B-4EAB8EC7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F6E-04B6-459E-9C79-5FC7E1C0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21CF-3C4D-4FAE-AAFD-6E8C65F841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56144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00000"/>
                </a:solidFill>
                <a:latin typeface="Times New Roman"/>
              </a:rPr>
              <a:t>Задачи на движени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6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4681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ут Конёк: «Сказать по дружбе,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Это службишка, не служба: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лужба вся, брат, впереди!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ы теперя спать поди;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 назавтра, утром рано,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ы поедем к окияну». 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971640" y="4289400"/>
            <a:ext cx="777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дсчитайте скорость движения конька Горбунка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716360" y="1844640"/>
            <a:ext cx="4248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у-с, так едет наш Иван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а кольцом на окиян.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орбунок летит, как ветер,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 в почин на первый вечер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ёрст сто тысяч отмахал.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 нигде не отдыха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трелка влево 3"/>
          <p:cNvSpPr/>
          <p:nvPr/>
        </p:nvSpPr>
        <p:spPr>
          <a:xfrm>
            <a:off x="4321080" y="6297480"/>
            <a:ext cx="395280" cy="216000"/>
          </a:xfrm>
          <a:prstGeom prst="leftArrow">
            <a:avLst>
              <a:gd name="adj1" fmla="val 50000"/>
              <a:gd name="adj2" fmla="val 499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00000"/>
                </a:solidFill>
                <a:latin typeface="Times New Roman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800000"/>
                </a:solidFill>
                <a:uFillTx/>
                <a:latin typeface="Times New Roman"/>
                <a:hlinkClick r:id="rId1" action="ppaction://hlinksldjump"/>
              </a:rPr>
              <a:t>Задача 1. </a:t>
            </a:r>
            <a:br>
              <a:rPr sz="4400"/>
            </a:br>
            <a:r>
              <a:rPr b="0" lang="ru-RU" sz="4400" spc="-1" strike="noStrike" u="sng">
                <a:solidFill>
                  <a:srgbClr val="800000"/>
                </a:solidFill>
                <a:uFillTx/>
                <a:latin typeface="Times New Roman"/>
                <a:hlinkClick r:id="rId2" action="ppaction://hlinksldjump"/>
              </a:rPr>
              <a:t>Задача 2. _x000b_</a:t>
            </a: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3. </a:t>
            </a:r>
            <a:br>
              <a:rPr sz="4400"/>
            </a:b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4. </a:t>
            </a:r>
            <a:br>
              <a:rPr sz="4400"/>
            </a:b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5. </a:t>
            </a:r>
            <a:br>
              <a:rPr sz="4400"/>
            </a:b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6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трелка вправо 1"/>
          <p:cNvSpPr/>
          <p:nvPr/>
        </p:nvSpPr>
        <p:spPr>
          <a:xfrm>
            <a:off x="3924360" y="5950080"/>
            <a:ext cx="792000" cy="431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49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тарые годы у одного царя было три сына, собрал он их и говорит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Сынки, мои любезные, покуда я ещё не стар, мне охота бы вас женить, посмотреть на ваших деточек, на моих внуча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Вот что, сынки, возьмите по стреле, выходите в чистое поле и стреляйте: куда стрелы упадут, там и судьба ваш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ыновья поклонились отцу, взяли по стреле, вышли в чистое поле, натянули луки и выстрели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 старшего сына стрела упала на боярский двор, подняла стрелу боярская дочь. У среднего сына упала стрела на широкий купеческий двор, подняла её купеческая доч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78920" y="333360"/>
            <a:ext cx="82803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1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484360" y="4797360"/>
            <a:ext cx="48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у младшего сына, Ивана-царевича, стрела поднялась и улетела сам не знает куда. Вот он шёл, шёл, дошёл до болота, видит – сидит лягушка, подхватила его стрелу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0920" y="1773000"/>
            <a:ext cx="7993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ость полета стрелы, выпущенной из лука Ивана-царевича, – 50 км/ч. Стрела долетела до Царевны-лягушки за 2 часа. Скорость пешего Ивана-царевича – 5 км/ч. За сколько часов Иван-царевич доберется до своей невес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Стрелка влево 2"/>
          <p:cNvSpPr/>
          <p:nvPr/>
        </p:nvSpPr>
        <p:spPr>
          <a:xfrm>
            <a:off x="4211640" y="6093000"/>
            <a:ext cx="612720" cy="43164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24120" y="836640"/>
            <a:ext cx="453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ер по морю гуля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кораблик подгоня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бежит себе в волн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однятых парус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мо острова крутог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мо города большог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шки с пристани паля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блю пристать веля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50560" y="1155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2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0" y="1789200"/>
            <a:ext cx="431964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скоростью нужно плыть кораблю, чтобы преодолеть путь от царства царя Султана до острова Буяна за 6 часов, если при скорости 55 км/ч он проходит это расстояние за 4,5 час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трелка влево 4"/>
          <p:cNvSpPr/>
          <p:nvPr/>
        </p:nvSpPr>
        <p:spPr>
          <a:xfrm>
            <a:off x="3995640" y="6093000"/>
            <a:ext cx="576360" cy="36036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3516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ван взял в охапку ковёр-самолёт, шапку-невидимку и сапоги-скороходы. Приходит к Устину и Ефиму. - А ну, ребята, садитесь. Сейчас полетим! Раскинул он ковёр-самолёт на поляне. Сели они все. Иван и говорит: - Лети, ковёр, туда, куда я тебе велю, - в тридевятое царство, в тридесятое государство. Взвился ковёр выше леса стоячего, выше облака ходячего, под самое поднебесье. Вся земля стала с рукавицу. Только реки поблескивают серебром, точно нитки, что крестьянки изо льна прядут. С восходом солнца они 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3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484360" y="4941720"/>
            <a:ext cx="6335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вёр садились, а в полдень в тридевятом царстве очутилис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177300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вер – самолет первую половину пути летел со скоростью 132 км/ч, а вторую половину пути со скоростью 143 км/ч. Найдите среднюю скорость ковра самолета за все время поле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трелка влево 2"/>
          <p:cNvSpPr/>
          <p:nvPr/>
        </p:nvSpPr>
        <p:spPr>
          <a:xfrm>
            <a:off x="4427640" y="6093000"/>
            <a:ext cx="396720" cy="21564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4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Маленький Мук и мальчик-с-пальчик соревновались в беге по дорожке длиной - 30 километров, которая шла вокруг леса. По условиям соревнования выигрывает тот, кто обгонит другого, пробежав на круг больше. Мальчик-с-пальчик делает круг за 10 минут, а Маленький Мук за 6 минут. Оба бегут равномерно. Через сколько минут Маленький Мук обгонит скорохода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трелка влево 3"/>
          <p:cNvSpPr/>
          <p:nvPr/>
        </p:nvSpPr>
        <p:spPr>
          <a:xfrm>
            <a:off x="4284720" y="6021360"/>
            <a:ext cx="503280" cy="36036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Задача 5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щучьему веленью, по моему хотенью - ну-ка, печь, поезжай к царю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т в избе углы затрещали, крыша зашаталась, стена вылетела, и печь сама пошла по улице, по дороге, прямо к цар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395280" y="342900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ехал Емеля на печке к царю – батюшке. Когда он проехал третью часть пути, остановился. Осталось ему ехать 12 км. Каково расстояние до царева дворц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трелка влево 4"/>
          <p:cNvSpPr/>
          <p:nvPr/>
        </p:nvSpPr>
        <p:spPr>
          <a:xfrm>
            <a:off x="4373640" y="6203880"/>
            <a:ext cx="396720" cy="21600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cer</cp:lastModifiedBy>
  <cp:lastPrinted>2018-05-15T00:44:48Z</cp:lastPrinted>
  <dcterms:modified xsi:type="dcterms:W3CDTF">2018-05-15T00:44:56Z</dcterms:modified>
  <cp:revision>55</cp:revision>
  <dc:subject/>
  <dc:title>Слайд 1</dc:title>
</cp:coreProperties>
</file>